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FB1-090E-47E4-BE1B-67E79C3B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0B9-B992-4BD2-A15B-CC154B1B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BFA-90CC-46ED-A3D1-36A2D207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9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EBB-002B-41FB-B4EF-26B4B270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D352-2C85-4D50-8235-D1FBCA94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27E4-F7C0-4B64-97F7-6D4ACE52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3BB9-7238-4ACE-88C4-7853326A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C679-9BD2-4AD6-9D48-C9F9366B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FDD8-0E3C-4467-A40B-9DD8F019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D7D6-67CA-4B7A-9E26-502F16AA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88C0-2A3D-4A66-B0D9-BF14DDEA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963-F2B3-4852-B44A-8F090725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7735-12EA-4CA9-A34E-723D7FA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3F5A-6B26-45F9-AAD5-B997C7A2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F7FD-9BF7-47D0-882F-0DE39715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B89E-B1EA-4141-B490-22B24FB5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67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9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E4AE-26C3-47F3-9708-FC525889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7216-44A6-4D14-B2CC-8ED4EA9B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CEE1-B577-45BD-9F68-CB06B65C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F5B9-5373-4DC1-86BE-478ABE3C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91BE-A0AF-4A60-BAD5-4915D830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2117-00E0-44BF-9CAE-B92C04B0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839-DCF6-4940-95ED-3ED1F303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06A6-DCD2-45E9-9535-D510CBE8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363D-33E0-48FE-974F-E5BBDB0C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1579-7E3F-4CBE-8904-29AC7C89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387B-70B4-4530-A893-2FDE78B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3A1F-7245-466C-B2BE-E5E185BD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E9FF-F065-4BA4-BCA5-B571D367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67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59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D133-F420-4C2D-B5D4-69BDAFF5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98FD-1B05-4A82-B0B3-57A5F26B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CF76-48C7-46B1-B26D-02AA4B65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04E2-AFE4-4B48-AD07-85DFD3EE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8F7-FB2A-459E-A44F-814A1B58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D779-9497-4004-86F4-87F2BC8D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1E2B-EC2B-439F-BA29-2A29C9B7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AA705-1C50-482F-9C39-C6D6284D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5973-A145-4E1A-9538-0AC093B6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79C7-51C0-452E-B838-6E52EE6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E4AF-9754-4883-903F-DF2EB3D0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34E3-D4AE-4B0B-B2CD-00BD4CEE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9CB0-567A-4D78-9BB3-E567BE92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67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159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56FF-8F7D-4FE1-8952-F878D13D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61D3-9DD4-449B-9453-A4D3A0C1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F5F-FC69-406A-AE89-D1E4F422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1062-39A3-4533-AD26-7A6F5FC6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A7BB6-C2EB-4ABA-BDF7-C3CD4E67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D748-6D98-4247-820E-390DDA1F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82B6-8D12-414E-BE7A-13051B9B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1EB4-8A09-4935-9DFA-76DEAB3E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6C1A0-43F4-4DD7-AAB3-2A1B5CB9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9915C-93E2-401A-A133-C6AF413A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0212D-C2DD-47A7-B3A5-A11FD5BC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A062-3780-4EC9-AAAB-37B31B5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281E1-9777-4A65-BA5D-6AD48BE9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AB9-BB22-4184-88E3-0BD692AB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67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15960" y="3943800"/>
            <a:ext cx="2646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7EE9-BC91-4DF8-B6E6-DE1D0F0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1D6-7EAB-4665-8DE2-E537535E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200" y="39438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88A-B100-4F03-9747-C1EC32CA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822024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D4C-7751-4783-8E6C-32F002FB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a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240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243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C5E92-5940-46B0-BF95-AAB1F2FC6D8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240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243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087D74-F748-4FD6-96E3-704C269540D4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630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52A02C-6B55-40A8-BC66-79F1791A08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6273360" y="-21600"/>
            <a:ext cx="2962800" cy="3333240"/>
            <a:chOff x="6273360" y="-21600"/>
            <a:chExt cx="2962800" cy="3333240"/>
          </a:xfrm>
        </p:grpSpPr>
        <p:grpSp>
          <p:nvGrpSpPr>
            <p:cNvPr id="130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131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27920" y="2828880"/>
                <a:ext cx="241200" cy="141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134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159760" y="177336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137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89880" y="32868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273360" y="-21600"/>
              <a:ext cx="2962800" cy="3333240"/>
              <a:chOff x="6273360" y="-21600"/>
              <a:chExt cx="2962800" cy="333324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562880" y="806400"/>
                  <a:ext cx="29700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273360" y="-21600"/>
                <a:ext cx="2867400" cy="2259720"/>
                <a:chOff x="6273360" y="-21600"/>
                <a:chExt cx="2867400" cy="225972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7843320" y="835200"/>
                  <a:ext cx="1055520" cy="1148040"/>
                  <a:chOff x="7843320" y="835200"/>
                  <a:chExt cx="1055520" cy="11480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rot="2700000">
                    <a:off x="7770240" y="112428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2700000">
                    <a:off x="8404560" y="16009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845480" y="763200"/>
                  <a:ext cx="1272960" cy="1059840"/>
                  <a:chOff x="7845480" y="763200"/>
                  <a:chExt cx="1272960" cy="10598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rot="2100000">
                    <a:off x="7812000" y="101412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2100000">
                    <a:off x="858312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848360" y="728640"/>
                  <a:ext cx="1288800" cy="825480"/>
                  <a:chOff x="7848360" y="728640"/>
                  <a:chExt cx="1288800" cy="82548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1560000">
                    <a:off x="7837200" y="9158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560000">
                    <a:off x="8629200" y="121716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846200" y="695160"/>
                  <a:ext cx="1294560" cy="660240"/>
                  <a:chOff x="7846200" y="695160"/>
                  <a:chExt cx="1294560" cy="6602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1080000">
                    <a:off x="7851240" y="823680"/>
                    <a:ext cx="86076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080000">
                    <a:off x="8648280" y="102024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855560" y="653760"/>
                  <a:ext cx="1222560" cy="414360"/>
                  <a:chOff x="7855560" y="653760"/>
                  <a:chExt cx="1222560" cy="4143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480000">
                    <a:off x="7862760" y="70776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480000">
                    <a:off x="8637120" y="788760"/>
                    <a:ext cx="4255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870680" y="631440"/>
                  <a:ext cx="1100160" cy="188280"/>
                  <a:chOff x="7870680" y="631440"/>
                  <a:chExt cx="1100160" cy="18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480000">
                    <a:off x="7872120" y="657000"/>
                    <a:ext cx="7207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480000">
                    <a:off x="858060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844760" y="418680"/>
                  <a:ext cx="975240" cy="332640"/>
                  <a:chOff x="7844760" y="418680"/>
                  <a:chExt cx="975240" cy="33264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760000">
                    <a:off x="846468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537240" y="898560"/>
                  <a:ext cx="1074600" cy="1148040"/>
                  <a:chOff x="6537240" y="898560"/>
                  <a:chExt cx="1074600" cy="11480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18900000">
                    <a:off x="6799680" y="118764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18900000">
                    <a:off x="6555960" y="16642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303600" y="852120"/>
                  <a:ext cx="1267920" cy="1061280"/>
                  <a:chOff x="6303600" y="852120"/>
                  <a:chExt cx="1267920" cy="10612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19500000">
                    <a:off x="6671880" y="110304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289920" y="820800"/>
                  <a:ext cx="1295640" cy="824400"/>
                  <a:chOff x="6289920" y="820800"/>
                  <a:chExt cx="1295640" cy="8244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20040000">
                    <a:off x="6705360" y="1008000"/>
                    <a:ext cx="8910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0040000">
                    <a:off x="6318720" y="1308240"/>
                    <a:ext cx="477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273360" y="786960"/>
                  <a:ext cx="1314000" cy="660600"/>
                  <a:chOff x="6273360" y="786960"/>
                  <a:chExt cx="1314000" cy="6606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20520000">
                    <a:off x="672120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20520000">
                    <a:off x="6303600" y="111240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339600" y="745920"/>
                  <a:ext cx="1222200" cy="411120"/>
                  <a:chOff x="6339600" y="745920"/>
                  <a:chExt cx="1222200" cy="4111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21120000">
                    <a:off x="6761520" y="799920"/>
                    <a:ext cx="79236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21120000">
                    <a:off x="6354360" y="879480"/>
                    <a:ext cx="4255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426360" y="720360"/>
                  <a:ext cx="1116000" cy="188280"/>
                  <a:chOff x="6426360" y="720360"/>
                  <a:chExt cx="1116000" cy="1882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20000">
                    <a:off x="6819480" y="74592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20000">
                    <a:off x="642924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575400" y="509040"/>
                  <a:ext cx="984600" cy="332640"/>
                  <a:chOff x="6575400" y="509040"/>
                  <a:chExt cx="984600" cy="3326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840000">
                    <a:off x="692208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840000">
                    <a:off x="659088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636600" y="400680"/>
                  <a:ext cx="970920" cy="450720"/>
                  <a:chOff x="6636600" y="400680"/>
                  <a:chExt cx="970920" cy="4507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260000">
                    <a:off x="6976440" y="63036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260000">
                    <a:off x="6656400" y="45540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6741720" y="222840"/>
                  <a:ext cx="913680" cy="629280"/>
                  <a:chOff x="6741720" y="222840"/>
                  <a:chExt cx="913680" cy="6292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2040000">
                    <a:off x="676080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858000" y="58680"/>
                  <a:ext cx="825480" cy="771120"/>
                  <a:chOff x="6858000" y="58680"/>
                  <a:chExt cx="825480" cy="7711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700000">
                    <a:off x="7097400" y="509760"/>
                    <a:ext cx="640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700000">
                    <a:off x="6868080" y="155160"/>
                    <a:ext cx="3445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104960" y="34560"/>
                  <a:ext cx="622800" cy="770040"/>
                  <a:chOff x="7104960" y="34560"/>
                  <a:chExt cx="622800" cy="770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3480000">
                    <a:off x="7248960" y="4809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3480000">
                    <a:off x="7107120" y="12204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290720" y="-21600"/>
                  <a:ext cx="465840" cy="818280"/>
                  <a:chOff x="7290720" y="-21600"/>
                  <a:chExt cx="465840" cy="81828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4140000">
                    <a:off x="7335000" y="468000"/>
                    <a:ext cx="544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4140000">
                    <a:off x="7277400" y="59040"/>
                    <a:ext cx="2919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801920" y="272520"/>
                  <a:ext cx="946080" cy="462600"/>
                  <a:chOff x="7801920" y="272520"/>
                  <a:chExt cx="946080" cy="4626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20280000">
                    <a:off x="7799400" y="511200"/>
                    <a:ext cx="631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20280000">
                    <a:off x="8388000" y="32976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746840" y="136080"/>
                  <a:ext cx="898560" cy="615240"/>
                  <a:chOff x="7746840" y="136080"/>
                  <a:chExt cx="898560" cy="6152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9680000">
                    <a:off x="7728120" y="480600"/>
                    <a:ext cx="6332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9680000">
                    <a:off x="828468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4560000">
                  <a:off x="743508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7673760" y="-10080"/>
                  <a:ext cx="489960" cy="806400"/>
                  <a:chOff x="7673760" y="-10080"/>
                  <a:chExt cx="489960" cy="8064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7760000">
                    <a:off x="7562880" y="484200"/>
                    <a:ext cx="5443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7760000">
                    <a:off x="7887240" y="7956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670520" y="47520"/>
                  <a:ext cx="777240" cy="747360"/>
                  <a:chOff x="7670520" y="47520"/>
                  <a:chExt cx="777240" cy="7473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840000">
                    <a:off x="7629480" y="46476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840000">
                    <a:off x="8101080" y="128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719480" y="10440"/>
                  <a:ext cx="175320" cy="736200"/>
                  <a:chOff x="7719480" y="10440"/>
                  <a:chExt cx="175320" cy="7362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6680000">
                    <a:off x="7530840" y="4788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6680000">
                    <a:off x="7711200" y="109800"/>
                    <a:ext cx="2617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706080" y="923040"/>
                  <a:ext cx="921960" cy="1246680"/>
                  <a:chOff x="6706080" y="923040"/>
                  <a:chExt cx="921960" cy="12466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8360000">
                    <a:off x="6860520" y="124740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8360000">
                    <a:off x="6709320" y="1778760"/>
                    <a:ext cx="47484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016040" y="977400"/>
                  <a:ext cx="612720" cy="1247400"/>
                  <a:chOff x="7016040" y="977400"/>
                  <a:chExt cx="612720" cy="12474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7520000">
                    <a:off x="6991920" y="1306080"/>
                    <a:ext cx="817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7520000">
                    <a:off x="6994080" y="1848600"/>
                    <a:ext cx="4395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321320" y="1001520"/>
                  <a:ext cx="357480" cy="1216800"/>
                  <a:chOff x="7321320" y="1001520"/>
                  <a:chExt cx="357480" cy="1216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6860000">
                    <a:off x="7139520" y="1328760"/>
                    <a:ext cx="7858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6860000">
                    <a:off x="7262280" y="1876320"/>
                    <a:ext cx="42084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807320" y="901800"/>
                  <a:ext cx="951120" cy="1235520"/>
                  <a:chOff x="7807320" y="901800"/>
                  <a:chExt cx="951120" cy="12355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3120000">
                    <a:off x="7700400" y="121932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3120000">
                    <a:off x="827532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793640" y="948240"/>
                  <a:ext cx="734760" cy="1259640"/>
                  <a:chOff x="7793640" y="948240"/>
                  <a:chExt cx="734760" cy="125964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3720000">
                    <a:off x="7637040" y="1280880"/>
                    <a:ext cx="84636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3720000">
                    <a:off x="8088120" y="182988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757640" y="997200"/>
                  <a:ext cx="522000" cy="1240920"/>
                  <a:chOff x="7757640" y="997200"/>
                  <a:chExt cx="522000" cy="1240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4260000">
                    <a:off x="7540920" y="134208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4260000">
                    <a:off x="7894080" y="189864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747200" y="1058760"/>
                  <a:ext cx="287280" cy="1151640"/>
                  <a:chOff x="7747200" y="1058760"/>
                  <a:chExt cx="287280" cy="11516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4920000">
                    <a:off x="7484040" y="1378800"/>
                    <a:ext cx="755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4920000">
                    <a:off x="7705440" y="1896480"/>
                    <a:ext cx="40464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516800" y="1076760"/>
                  <a:ext cx="271080" cy="1131840"/>
                  <a:chOff x="7516800" y="1076760"/>
                  <a:chExt cx="271080" cy="11318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5760000">
                    <a:off x="733212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5760000">
                    <a:off x="741456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2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90080 w 2179440"/>
                  <a:gd name="textAreaRight" fmla="*/ 2179800 w 2179440"/>
                  <a:gd name="textAreaTop" fmla="*/ 42840 h 2405160"/>
                  <a:gd name="textAreaBottom" fmla="*/ 122436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960 w 955800"/>
                  <a:gd name="textAreaRight" fmla="*/ 955800 w 9558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000 w 911160"/>
                  <a:gd name="textAreaRight" fmla="*/ 911160 w 91116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 rot="19680000">
                <a:off x="7614720" y="1102680"/>
                <a:ext cx="2257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33816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47784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815160" y="45720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7986600" y="79200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380000">
                <a:off x="7176960" y="78084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30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30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0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1DA068-A46E-4996-BD71-8A6F220ACE4A}" type="slidenum">
              <a: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2011320" y="255240"/>
            <a:ext cx="7118280" cy="8004600"/>
            <a:chOff x="2011320" y="255240"/>
            <a:chExt cx="7118280" cy="8004600"/>
          </a:xfrm>
        </p:grpSpPr>
        <p:grpSp>
          <p:nvGrpSpPr>
            <p:cNvPr id="30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011320" y="255240"/>
              <a:ext cx="7118280" cy="7776000"/>
              <a:chOff x="2011320" y="255240"/>
              <a:chExt cx="7118280" cy="777600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2011320" y="255240"/>
                <a:ext cx="6891120" cy="5433840"/>
                <a:chOff x="2011320" y="255240"/>
                <a:chExt cx="6891120" cy="543384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011320" y="255240"/>
                  <a:ext cx="6891120" cy="5433840"/>
                  <a:chOff x="2011320" y="255240"/>
                  <a:chExt cx="6891120" cy="5433840"/>
                </a:xfrm>
              </p:grpSpPr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761080" y="2323440"/>
                    <a:ext cx="2571840" cy="2740320"/>
                    <a:chOff x="5761080" y="2323440"/>
                    <a:chExt cx="2571840" cy="27403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2700000">
                      <a:off x="7146000" y="4144320"/>
                      <a:ext cx="11397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88440" y="2140200"/>
                    <a:ext cx="3049200" cy="2528280"/>
                    <a:chOff x="5788440" y="2140200"/>
                    <a:chExt cx="3049200" cy="252828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100000">
                      <a:off x="5708160" y="2742840"/>
                      <a:ext cx="22370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100000">
                      <a:off x="7553160" y="3713040"/>
                      <a:ext cx="12002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82680" y="2071080"/>
                    <a:ext cx="3098520" cy="1975680"/>
                    <a:chOff x="5782680" y="2071080"/>
                    <a:chExt cx="3098520" cy="197568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1560000">
                      <a:off x="5756400" y="252108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1560000">
                      <a:off x="7660800" y="323676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68640" y="1960920"/>
                    <a:ext cx="3133800" cy="1617480"/>
                    <a:chOff x="5768640" y="1960920"/>
                    <a:chExt cx="3133800" cy="16174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1080000">
                      <a:off x="5781600" y="2270160"/>
                      <a:ext cx="206712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1080000">
                      <a:off x="7718040" y="277452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814720" y="1874160"/>
                    <a:ext cx="2934360" cy="1000800"/>
                    <a:chOff x="5814720" y="1874160"/>
                    <a:chExt cx="2934360" cy="100080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480000">
                      <a:off x="583200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480000">
                      <a:off x="7687800" y="220320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841000" y="1811160"/>
                    <a:ext cx="2670120" cy="454320"/>
                    <a:chOff x="5841000" y="1811160"/>
                    <a:chExt cx="2670120" cy="454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21480000">
                      <a:off x="5844960" y="1852200"/>
                      <a:ext cx="17301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21480000">
                      <a:off x="7573680" y="182700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780160" y="1299600"/>
                    <a:ext cx="2371680" cy="799560"/>
                    <a:chOff x="5780160" y="1299600"/>
                    <a:chExt cx="2371680" cy="7995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20760000">
                      <a:off x="578952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20760000">
                      <a:off x="7297560" y="1391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2655360" y="2474280"/>
                    <a:ext cx="2549520" cy="2739600"/>
                    <a:chOff x="2655360" y="2474280"/>
                    <a:chExt cx="2549520" cy="273960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18900000">
                      <a:off x="2701800" y="429408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093040" y="2359440"/>
                    <a:ext cx="3037320" cy="2527920"/>
                    <a:chOff x="2093040" y="2359440"/>
                    <a:chExt cx="3037320" cy="25279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19500000">
                      <a:off x="2972880" y="2962080"/>
                      <a:ext cx="22370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19500000">
                      <a:off x="2176920" y="393048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41920" y="2280240"/>
                    <a:ext cx="3100320" cy="1985760"/>
                    <a:chOff x="2041920" y="2280240"/>
                    <a:chExt cx="3100320" cy="19857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20040000">
                      <a:off x="3026520" y="2730600"/>
                      <a:ext cx="21416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20040000">
                      <a:off x="2111760" y="345600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11320" y="2179440"/>
                    <a:ext cx="3134160" cy="1616400"/>
                    <a:chOff x="2011320" y="2179440"/>
                    <a:chExt cx="3134160" cy="16164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520000">
                      <a:off x="3063240" y="248868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520000">
                      <a:off x="2084040" y="299196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164320" y="2093400"/>
                    <a:ext cx="2952360" cy="1000800"/>
                    <a:chOff x="2164320" y="2093400"/>
                    <a:chExt cx="2952360" cy="100080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1120000">
                      <a:off x="3193560" y="2224080"/>
                      <a:ext cx="19051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1120000">
                      <a:off x="2201400" y="2422440"/>
                      <a:ext cx="10224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392920" y="2030040"/>
                    <a:ext cx="2659320" cy="454320"/>
                    <a:chOff x="2392920" y="2030040"/>
                    <a:chExt cx="2659320" cy="4543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120000">
                      <a:off x="3317400" y="206964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120000">
                      <a:off x="2399400" y="204588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758680" y="1518840"/>
                    <a:ext cx="2357640" cy="799560"/>
                    <a:chOff x="2758680" y="1518840"/>
                    <a:chExt cx="2357640" cy="79956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840000">
                      <a:off x="358560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840000">
                      <a:off x="2796120" y="161100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878200" y="1247040"/>
                    <a:ext cx="2336760" cy="1070640"/>
                    <a:chOff x="2878200" y="1247040"/>
                    <a:chExt cx="2336760" cy="107064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1260000">
                      <a:off x="2925360" y="1379160"/>
                      <a:ext cx="8157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151440" y="831600"/>
                    <a:ext cx="2179080" cy="1510920"/>
                    <a:chOff x="3151440" y="831600"/>
                    <a:chExt cx="2179080" cy="15109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2040000">
                      <a:off x="319788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436920" y="442440"/>
                    <a:ext cx="1983240" cy="1838880"/>
                    <a:chOff x="3436920" y="442440"/>
                    <a:chExt cx="1983240" cy="18388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2700000">
                      <a:off x="4008960" y="150948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2700000">
                      <a:off x="3462480" y="674280"/>
                      <a:ext cx="828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016880" y="346680"/>
                    <a:ext cx="1472040" cy="1876320"/>
                    <a:chOff x="4016880" y="346680"/>
                    <a:chExt cx="1472040" cy="18763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3480000">
                      <a:off x="4339080" y="144540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3480000">
                      <a:off x="4022280" y="55728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451400" y="255240"/>
                    <a:ext cx="1121760" cy="1944000"/>
                    <a:chOff x="4451400" y="255240"/>
                    <a:chExt cx="1121760" cy="194400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4140000">
                      <a:off x="4560480" y="140868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4140000">
                      <a:off x="4419360" y="450000"/>
                      <a:ext cx="7034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670000" y="960840"/>
                    <a:ext cx="2307960" cy="1104480"/>
                    <a:chOff x="5670000" y="960840"/>
                    <a:chExt cx="2307960" cy="110448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20280000">
                      <a:off x="5664240" y="15253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20280000">
                      <a:off x="7113240" y="109836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33200" y="626760"/>
                    <a:ext cx="2186280" cy="1459080"/>
                    <a:chOff x="5533200" y="626760"/>
                    <a:chExt cx="2186280" cy="145908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9680000">
                      <a:off x="5487840" y="1437840"/>
                      <a:ext cx="15195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9680000">
                      <a:off x="685476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4560000">
                    <a:off x="4795560" y="54864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353560" y="271440"/>
                    <a:ext cx="1198800" cy="1909080"/>
                    <a:chOff x="5353560" y="271440"/>
                    <a:chExt cx="1198800" cy="190908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7760000">
                      <a:off x="5087520" y="142884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7760000">
                      <a:off x="5887800" y="486720"/>
                      <a:ext cx="7016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344920" y="400680"/>
                    <a:ext cx="1884960" cy="1793160"/>
                    <a:chOff x="5344920" y="400680"/>
                    <a:chExt cx="1884960" cy="17931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8840000">
                      <a:off x="5247360" y="139896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8840000">
                      <a:off x="6395400" y="595800"/>
                      <a:ext cx="763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468400" y="292680"/>
                    <a:ext cx="426240" cy="1813680"/>
                    <a:chOff x="5468400" y="292680"/>
                    <a:chExt cx="426240" cy="18136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6680000">
                      <a:off x="5014800" y="146304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6680000">
                      <a:off x="545184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3077280" y="2533320"/>
                    <a:ext cx="2186640" cy="2998080"/>
                    <a:chOff x="3077280" y="2533320"/>
                    <a:chExt cx="2186640" cy="2998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8360000">
                      <a:off x="3086640" y="459036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794400" y="2647440"/>
                    <a:ext cx="1473120" cy="3002400"/>
                    <a:chOff x="3794400" y="2647440"/>
                    <a:chExt cx="1473120" cy="300240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7520000">
                      <a:off x="3737160" y="3439080"/>
                      <a:ext cx="1967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7520000">
                      <a:off x="3743640" y="474552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4529520" y="2694240"/>
                    <a:ext cx="852840" cy="2928600"/>
                    <a:chOff x="4529520" y="2694240"/>
                    <a:chExt cx="852840" cy="292860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6860000">
                      <a:off x="4087800" y="3480480"/>
                      <a:ext cx="188784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6860000">
                      <a:off x="4386600" y="4801320"/>
                      <a:ext cx="101268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5674320" y="2485440"/>
                    <a:ext cx="2302560" cy="2940840"/>
                    <a:chOff x="5674320" y="2485440"/>
                    <a:chExt cx="2302560" cy="29408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rot="3120000">
                      <a:off x="6817320" y="4488120"/>
                      <a:ext cx="114012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43000" y="2594880"/>
                    <a:ext cx="1765440" cy="3030120"/>
                    <a:chOff x="5643000" y="2594880"/>
                    <a:chExt cx="1765440" cy="30301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3720000">
                      <a:off x="5265720" y="3394800"/>
                      <a:ext cx="20336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3720000">
                      <a:off x="6351840" y="4718880"/>
                      <a:ext cx="10904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581080" y="2711160"/>
                    <a:ext cx="1223280" cy="2977920"/>
                    <a:chOff x="5581080" y="2711160"/>
                    <a:chExt cx="1223280" cy="297792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4260000">
                      <a:off x="5059080" y="3541320"/>
                      <a:ext cx="197316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4260000">
                      <a:off x="5877000" y="4872600"/>
                      <a:ext cx="10591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539320" y="2831040"/>
                    <a:ext cx="683640" cy="2777400"/>
                    <a:chOff x="5539320" y="2831040"/>
                    <a:chExt cx="683640" cy="277740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4920000">
                      <a:off x="4908240" y="359892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4920000">
                      <a:off x="5431680" y="485424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4975560" y="2886840"/>
                    <a:ext cx="657720" cy="2717640"/>
                    <a:chOff x="4975560" y="2886840"/>
                    <a:chExt cx="657720" cy="27176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5760000">
                      <a:off x="4539600" y="3663720"/>
                      <a:ext cx="17715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5760000">
                      <a:off x="47307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2174760" y="682560"/>
                <a:ext cx="6954840" cy="7348680"/>
                <a:chOff x="2174760" y="682560"/>
                <a:chExt cx="6954840" cy="734868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174760" y="682560"/>
                  <a:ext cx="6954840" cy="7348680"/>
                  <a:chOff x="2174760" y="682560"/>
                  <a:chExt cx="6954840" cy="73486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5400720" y="858600"/>
                    <a:ext cx="3728880" cy="5045040"/>
                  </a:xfrm>
                  <a:custGeom>
                    <a:avLst/>
                    <a:gdLst>
                      <a:gd name="textAreaLeft" fmla="*/ 340920 w 3728880"/>
                      <a:gd name="textAreaRight" fmla="*/ 3505680 w 37288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2562120" y="2270160"/>
                    <a:ext cx="3517920" cy="5761080"/>
                  </a:xfrm>
                  <a:custGeom>
                    <a:avLst/>
                    <a:gdLst>
                      <a:gd name="textAreaLeft" fmla="*/ 1032480 w 3517920"/>
                      <a:gd name="textAreaRight" fmla="*/ 3517920 w 35179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2" name=""/>
                <p:cNvSpPr/>
                <p:nvPr/>
              </p:nvSpPr>
              <p:spPr>
                <a:xfrm rot="20220000">
                  <a:off x="6127920" y="219024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4467240" y="32353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384720" y="2476440"/>
                <a:ext cx="5232240" cy="5783400"/>
              </a:xfrm>
              <a:custGeom>
                <a:avLst/>
                <a:gdLst>
                  <a:gd name="textAreaLeft" fmla="*/ 2615760 w 5232240"/>
                  <a:gd name="textAreaRight" fmla="*/ 5232240 w 523224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2342520" y="1736640"/>
                <a:ext cx="3684600" cy="57610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rot="1380000">
                <a:off x="4183200" y="2163240"/>
                <a:ext cx="54432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588680"/>
            <a:ext cx="77630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13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8E7884-97A4-40AD-A6F3-166C3BDF01C0}" type="slidenum">
              <a:rPr b="0" lang="ru-RU" sz="1400" spc="-1" strike="noStrike">
                <a:solidFill>
                  <a:srgbClr val="ffcc00"/>
                </a:solidFill>
                <a:latin typeface="Arial Blac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C:/wiki/1994_%25D0%25B3%25D0%25BE%25D0%25B4" TargetMode="External"/><Relationship Id="rId3" Type="http://schemas.openxmlformats.org/officeDocument/2006/relationships/hyperlink" Target="file:///C:/wiki/%25D0%259F%25D1%2580%25D0%25B5%25D0%25B7%25D0%25B8%25D0%25B4%25D0%25B5%25D0%25BD%25D1%2582_%25D0%25A0%25D0%25BE%25D1%2581%25D1%2581%25D0%25B8%25D0%25B9%25D1%2581%25D0%25BA%25D0%25BE%25D0%25B9_%25D0%25A4%25D0%25B5%25D0%25B4%25D0%25B5%25D1%2580%25D0%25B0%25D1%2586%25D0%25B8%25D0%25B8" TargetMode="External"/><Relationship Id="rId4" Type="http://schemas.openxmlformats.org/officeDocument/2006/relationships/hyperlink" Target="file:///C:/wiki/22_%25D0%25B0%25D0%25B2%25D0%25B3%25D1%2583%25D1%2581%25D1%2582%25D0%25B0" TargetMode="External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alend.ru/day/11-4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720720" y="527040"/>
            <a:ext cx="7559640" cy="57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Спасск-Дальний_9" descr=""/>
          <p:cNvPicPr/>
          <p:nvPr/>
        </p:nvPicPr>
        <p:blipFill>
          <a:blip r:embed=""/>
          <a:stretch/>
        </p:blipFill>
        <p:spPr>
          <a:xfrm>
            <a:off x="231840" y="179280"/>
            <a:ext cx="8407440" cy="64785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338120" y="1639800"/>
            <a:ext cx="65818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Нужны ли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патриоты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сегодня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219640" y="163440"/>
            <a:ext cx="400536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Патриотизм рождается под влиянием не только национальной символики, но и волнующих исторических событий. Чувство гордости у миллионов людей вызвали Победа советского народа в Великой Отечественной войне 1941–1945 гг., запуск первого искусственного спутника Земли, полет в космос Юрия Гагари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276120" y="968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360360" y="3780000"/>
            <a:ext cx="2340000" cy="233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2700360" y="1508040"/>
            <a:ext cx="25480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539640" y="1724040"/>
            <a:ext cx="32799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Клянусь честью, что на свете я не хотел бы переменить Отечество или иметь другую историю, кроме истории наших предков»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4140360" cy="41403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519440" y="3114720"/>
            <a:ext cx="1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5580000" y="3240000"/>
            <a:ext cx="3600360" cy="39592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3759120" y="1800360"/>
            <a:ext cx="2181240" cy="2600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040360" y="393840"/>
            <a:ext cx="400536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Князь А. Невский прожил всего 43 года, он стал князем в 16 лет, в 20 – победил шведов в битве на реке Нева, а в 22 года – одержал знаменитую победу на льду Чудского озера. И было прославлено его имя. А затем он своей осторожной политикой уберег Русь, дал ей окрепнуть, оправиться от разорения. Он - родоначальник возрождения России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60360" y="720720"/>
            <a:ext cx="4500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959280" y="1440000"/>
            <a:ext cx="52722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ез патриотизма нет такой ответственности. Если я не думаю о своём народе, то у меня нет дома, нет корней. Потому что дом— это не только комфорт, это ещё и ответственность за порядок в нем, это ответственность за детей, которые живут в этом доме. Человек без патриотизма, по сути, не имеет своей страны. А «человек мира» это то же самое, что бездомный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341964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680000" y="876240"/>
            <a:ext cx="377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673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8999640" cy="64976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0" y="360360"/>
            <a:ext cx="351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народный праздник, День защитников Отечества, стал олицетворением верности присяге, добросовестного выполнения священного долга перед Родиной. Армия во все времена находилась в центре внимания российского об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0360" y="4071960"/>
            <a:ext cx="360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правляясь на службу, юноша должен знать, что он защищает свой народ, дом, мать, невесту, сестру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240000" y="1079640"/>
            <a:ext cx="3959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60360" y="539640"/>
            <a:ext cx="8099280" cy="6318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388800" y="3021120"/>
            <a:ext cx="4470480" cy="38368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17680" y="1230480"/>
            <a:ext cx="83023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Нынешние власти вычеркнули национальность из паспорта. Но свободный человек имеет право носить имя своего народа. Каждый вправе называться у нас не каким-то там россиянином, но иметь имя народа, к которому принадлежали его деды, прадеды и пращуры. И я хочу не только быть, но и называться тем, кто я есть, -- русским человек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60360" y="5940360"/>
            <a:ext cx="8459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Правительством РФ 13 ноября 2006 учреждена памятная медаль «Патриот России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3240360" cy="43196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5040360" y="3060720"/>
            <a:ext cx="377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4500720" y="138240"/>
            <a:ext cx="564012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-345960" y="2700360"/>
            <a:ext cx="2865240" cy="2340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5580000" y="3959280"/>
            <a:ext cx="3780000" cy="27176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319640" y="0"/>
            <a:ext cx="503532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33640" y="3828960"/>
            <a:ext cx="4267080" cy="30290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319640" y="0"/>
            <a:ext cx="503532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У нас в школе проходит постоянно декада, посвященная Дню защитника Отечества, мероприятия ко Дню Победы, куда приглашаются ветераны войны и труда. В школьной газете отражаются все эти мероприятия. Школьники оказывают посильную помощь ветеранам войны и труда. Ученики нашей школы являются постоянными участниками патриотических митингов и приятно смотреть, что дети идут к памятникам с цвет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700360" y="2379600"/>
            <a:ext cx="5189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300720" y="-179280"/>
            <a:ext cx="2700360" cy="2519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000680" cy="53341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3930480" y="3760920"/>
            <a:ext cx="5429520" cy="36194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3459240" y="2149560"/>
            <a:ext cx="3741840" cy="25304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640" y="0"/>
            <a:ext cx="556236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Если молодой человек получил диплом о высшем образовании, работает с полной отдачей для людей, для своей страны его можно считать патриотом. Даже если он не служил в армии, язык не повернётся обвинить его в отсутствии патриотиз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206280" y="3240000"/>
            <a:ext cx="88092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452520"/>
            <a:ext cx="92408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% - считают себя патриотами. Это значит, что они любят свою страну – ведь именно так мы сегодня расшифровываем понятие «патриотизм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% - сказали , что «патриотизм» – это любовь к родине, к люд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гируя на просьбу как-то ответить на вопрос «кто вы такой?», 58% определяют себя как граждане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60360" y="1619280"/>
            <a:ext cx="25192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3959280" y="93600"/>
            <a:ext cx="5153040" cy="36864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4280" y="2460600"/>
            <a:ext cx="4096080" cy="4199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01520" y="0"/>
            <a:ext cx="367848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Есть у истории о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пререкаемый зако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то предан родине своей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 борьбе не будет побеждён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319640" y="3780000"/>
            <a:ext cx="4140000" cy="306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900000" y="395928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80000" y="1260360"/>
            <a:ext cx="3205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79280" y="5719680"/>
            <a:ext cx="8801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6480000" y="3959280"/>
            <a:ext cx="2700360" cy="30607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09600" y="541440"/>
            <a:ext cx="6350040" cy="4859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0" y="5899320"/>
            <a:ext cx="8748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усть мы нищие, пусть у нас холодно, голодно, но зато у нас есть душа», от себя добавим - русская душ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27160" y="5219640"/>
            <a:ext cx="87724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640720" cy="6300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58760" y="5040360"/>
            <a:ext cx="920124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жно сколько угодно верно говорить о любви к Отечеству, но в сущности -- оставаться чуждым ей. Ибо любовь -- это прежде всего умение жертвовать во имя того, что любишь. Жертвовать многим, а иногда и жизн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51280" y="4221000"/>
            <a:ext cx="237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40000" y="2411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87640" y="189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179280"/>
            <a:ext cx="911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459640" cy="66787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539640" y="434880"/>
            <a:ext cx="831852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одина дала нам счастье быть, знать достоинство нашего народа, она одарила нас несравненным языком, который вместил всё многообразие и все оттенки жиз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500720" y="2509920"/>
            <a:ext cx="431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695160" indent="-663480">
              <a:lnSpc>
                <a:spcPct val="100000"/>
              </a:lnSpc>
              <a:tabLst>
                <a:tab algn="l" pos="0"/>
                <a:tab algn="l" pos="69516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Любовь к Родине -- это самоотверженный труд. И кому как ни нам возвышать свою Отчизну, гордиться традициями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95160" indent="-663480">
              <a:lnSpc>
                <a:spcPct val="100000"/>
              </a:lnSpc>
              <a:tabLst>
                <a:tab algn="l" pos="0"/>
                <a:tab algn="l" pos="69516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Быть патриотом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31920" y="179280"/>
            <a:ext cx="8667720" cy="64803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0" y="0"/>
            <a:ext cx="963288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SimSun"/>
              </a:rPr>
              <a:t>Любовь к Родине -- это самоотверженный труд. И кому как ни нам возвышать свою Отчизну, гордиться       традициями и       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ее истори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1920" indent="-4474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1920" indent="-4474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Быть патриотом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79280" y="539640"/>
            <a:ext cx="220356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диняйтесь, патриот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ечества достойные сын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 Родину, за правду, за Свобод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 честь и благоденствие стран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00720" y="2565360"/>
            <a:ext cx="218916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104920" y="304920"/>
            <a:ext cx="5330880" cy="57592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219640" y="3959280"/>
            <a:ext cx="3826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диняйтесь, патриот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ечества святыни сохрани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 Родину, за счастье, за своб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ы победим! Мы победим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440000" y="498600"/>
            <a:ext cx="6172200" cy="598140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263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16000" y="45252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Село_Спасское,_памятник_погибшим_в_ВОВ" descr=""/>
          <p:cNvPicPr/>
          <p:nvPr/>
        </p:nvPicPr>
        <p:blipFill>
          <a:blip r:embed=""/>
          <a:stretch/>
        </p:blipFill>
        <p:spPr>
          <a:xfrm>
            <a:off x="-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-3240" y="12600"/>
            <a:ext cx="9256680" cy="67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Слово patris по-гречески означает отечество. В.И. Ленин считал: «Патриотизм – одно из наиболее глубоких чувств, закрепленных веками и тысячелетиями обособленных отечеств». Это – идеология, направленная на поддержку родной страны, деятельность на благо отчизны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Город_Спасск-Дальний,_памятник_красноармейцам" descr=""/>
          <p:cNvPicPr/>
          <p:nvPr/>
        </p:nvPicPr>
        <p:blipFill>
          <a:blip r:embed=""/>
          <a:stretch/>
        </p:blipFill>
        <p:spPr>
          <a:xfrm>
            <a:off x="720720" y="320760"/>
            <a:ext cx="7920000" cy="63403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900000" y="900000"/>
            <a:ext cx="7969320" cy="59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В истории человеческого общества простой, казалось бы, нравственный принцип понимался по-разному. В античности патриотом считали приверженца своего города-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В эпоху французской буржуазной революции оно приобрело её вновь, слово «патриот» стало синонимом понятия «революционер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780000" y="965160"/>
            <a:ext cx="499572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459640" cy="6480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680000" y="493560"/>
            <a:ext cx="45244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ждой стране сложились традиции в патриотическом воспитан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е, что приходит в голову, когда заговаривают о патриотизме - Америка. Вот уж кто громко заявляет всему миру, что они патриоты, так это американцы. Патриотизм стал визитной карточкой США. Американцы снимают фильмы на патриотические темы, пишут об этом в пресс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700360" y="2552760"/>
            <a:ext cx="1771560" cy="2666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060720" y="179280"/>
            <a:ext cx="5940360" cy="63007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60360" y="411120"/>
            <a:ext cx="361152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нь Государственного флага Российской Федерации — один из официально установленных праздников России; установлен в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94 году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указом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президента Российской Федерации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и отмечается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22 авгу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291520" cy="60516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900000" y="463680"/>
            <a:ext cx="5002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июня День России, или же День принятия Декларации о государственном суверенитете России, как именовался этот праздник до 2002 года, — это один из самых «молодых» государственных праздников в ст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60360" y="539640"/>
            <a:ext cx="46069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ноября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— день Казанской иконы Божией Матери — с 2005 года отмечается как День народного един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1979640" y="2879640"/>
            <a:ext cx="3959280" cy="3780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5543640" y="0"/>
            <a:ext cx="3600360" cy="4140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79280" y="5881680"/>
            <a:ext cx="8820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7 ноября --День воинской славы России — День проведения военного парада на Красной площади в 1941 г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5041800" cy="43196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4324320" cy="38228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139680" y="3819600"/>
            <a:ext cx="2381400" cy="19414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658960" y="3638520"/>
            <a:ext cx="2381400" cy="15811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4519440" y="3114720"/>
            <a:ext cx="1419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4:59:57Z</dcterms:created>
  <dc:creator>Ольга Васильевна</dc:creator>
  <dc:description/>
  <dc:language>en-US</dc:language>
  <cp:lastModifiedBy>Питонище</cp:lastModifiedBy>
  <dcterms:modified xsi:type="dcterms:W3CDTF">2010-02-28T16:13:53Z</dcterms:modified>
  <cp:revision>78</cp:revision>
  <dc:subject/>
  <dc:title>Слайд 1</dc:title>
</cp:coreProperties>
</file>